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E6A-D430-4973-A018-81A353D9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00A-154C-46B6-98C6-122FA484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977-7A13-4428-BEF0-468AA3F2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880-8E58-4324-B01E-51D45EE7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9E48-8B90-4B11-8265-DEE3DDDA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EC46-39B2-4237-A187-4DE1BD35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3EAB-6E12-4DAF-991B-517C22D9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2A35-54E5-46FE-B5A4-02F34DD0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FC96-74C4-42C0-90CB-C2CDD14F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F8F7-E6EF-40D1-AEF6-0EBE471F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F023-5DDB-4880-B4B6-EA697166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5C6-D2EE-4260-978E-2EB04023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1390-99C2-491B-B270-239D94EA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6705-2D09-4C23-8D9F-28F43BCC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03B9-1514-4368-8487-4EDBC68B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078B-CC2F-4283-A42A-C71A3AF2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6E4F-FB96-4B48-AE63-D408CFF3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7ED-D3F6-4FA4-88CD-BFCD1D54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810-2DAA-4E5C-B526-E49E4B52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6C9-1FCE-4507-9C2E-C6D45352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624-ABE0-4764-A854-EE8D94CE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7E1-78D5-4459-97D0-F8CE816C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4D4-DB46-4B58-9DDA-A7C9A145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DE9-E048-4B55-A065-87C8A770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7D01-2BB4-42D7-848B-0C3A1C95501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14F0-73D3-475C-9492-166FD0DFE4B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PTER 5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entury Gothic"/>
              </a:rPr>
              <a:t>Electrons in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Quantum Mechanical Model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Quantum mechanical model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mes from the mathematical solution to the Schrödinger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es not define exact path an electron takes around the nucleus, but does restrict energy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stimates probability of finding an electron in a certa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Quantum Mechanical Model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 quantum numbers (n)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designate energy levels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lectrons occup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ergy sublevel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; number of sublevels = the principal quantum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tomic orbital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re the cloud shapes where electrons can be found; denoted by letters (s, p, d, and 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ways in which electrons are arranged around the nuclei of atoms are called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ctron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ufbau principle: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ectrons enter orbitals of lowest energy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auli exclusion principl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n atomic orbital may describe at most two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und’s rul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when electrons occupy orbitals of equal energy, one electron enters each orbital until all the orbitals contain one electron with parallel s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  2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  3p 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4s  4p  4d  4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5s  5p  5d  5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6s  6p  6d  6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7s  7p  7d  7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 flipH="1">
            <a:off x="914400" y="24382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837720" y="2666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837720" y="2971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838080" y="3200400"/>
            <a:ext cx="1447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685440" y="3429000"/>
            <a:ext cx="1981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electron configurations for these atoms: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hosphoru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hosphoru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ickel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d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4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hocolateBox"/>
              </a:rPr>
              <a:t>CHAPTER 6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Period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cientists needed a way to organize and refer to the growing number of known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tegorize the elements according to similarities in their physical and chemical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lationship between atomic structure and properties of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deleev listed the elements in vertical columns in order of increasing 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ular recurrence of physical and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nk spaces left where unknown elements belonged, but able to predict their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eley determined atomic number of the atom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ranged the elements by order of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Rectangle 10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935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a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member atomic the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om considered indi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om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lum pudding ato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ectrons stuck into a mass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id not take into account number of protons, neutrons, and electrons, arrangement within atom, or how ion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Modern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514240"/>
            <a:ext cx="773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orizontal rows of the periodic table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i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organized by increasing atomic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ertical column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rou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families (organized by chemical proper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iodic La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when the elements are arranged in order of increasing atomic number, there is a periodic pattern in their physical and chem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plays the greatest part in determining the physical and chemical propertie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can be classified into four different categories based on their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781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oble g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re elements in which the outermost s and p sublevels are filled (group 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alled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nert g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ecause they do not partake in chemical re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alenc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  outermost s and p orbi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cte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  8 electrons in valence sh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presentative 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elements whose outermost s or p sublevels are only partially filled (group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kali met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group 1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kaline earth met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groups 2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aloge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nonmetallic elements of group 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number = number of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ition 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elements whose outermost s sublevel and the nearby d sublevel contain electrons (group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ner transition 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elements whose outermost s sublevel and the nearby f sublevel contain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groups 1A and 2A and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groups 3A, 4A, 5A, 6A, 7A, and 0 except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transition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inner transition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iod numb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principal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Atomic Siz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adius of atoms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tomic rad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size increases as you move down a group of the periodic table and decreases as you move form left to right across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hielding eff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se electrons on the nucleus is constant within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Ionization Energ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energy that is required to overcome the attraction of the nuclear charge and remove an electron to create a positive atom i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rst ionization energy decreases as you move down a group of the periodic table and increases as you move form left to right across a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Ionic Siz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c radi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size of an ion compared to same neutral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positive ions) are smaller because of the reduced energy level with the same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egative ions) are larger because of a reduced effective nuclear charge on oute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Electronegativ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egativ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an element is the ability of an atom to attract electrons within a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increases as you go across a period form left to right and decreases as you move down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uther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uclear atom in which electrons surround dense positively charged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t of atom empty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at prevents the electrons from falling into the nucle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o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lanetary” model of the a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lectrons in a particular path have a fixed energy; they do not lose energy and fall into the nucl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Energy level: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region around the nucleus where the electron is likely to be mo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Quantum: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mount of energy required to move an electron from one energy level to the next higher 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4" name="Picture 9" descr="MCj04369170000[1]"/>
          <p:cNvPicPr/>
          <p:nvPr/>
        </p:nvPicPr>
        <p:blipFill>
          <a:blip r:embed="rId1"/>
          <a:stretch/>
        </p:blipFill>
        <p:spPr>
          <a:xfrm>
            <a:off x="1830240" y="43005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thomson"/>
          <p:cNvPicPr/>
          <p:nvPr/>
        </p:nvPicPr>
        <p:blipFill>
          <a:blip r:embed="rId2"/>
          <a:stretch/>
        </p:blipFill>
        <p:spPr>
          <a:xfrm>
            <a:off x="1828800" y="2438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QM Model"/>
          <p:cNvPicPr/>
          <p:nvPr/>
        </p:nvPicPr>
        <p:blipFill>
          <a:blip r:embed="rId3"/>
          <a:stretch/>
        </p:blipFill>
        <p:spPr>
          <a:xfrm>
            <a:off x="5562720" y="411480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rutherford"/>
          <p:cNvPicPr/>
          <p:nvPr/>
        </p:nvPicPr>
        <p:blipFill>
          <a:blip r:embed="rId4"/>
          <a:stretch/>
        </p:blipFill>
        <p:spPr>
          <a:xfrm>
            <a:off x="5486400" y="2438280"/>
            <a:ext cx="18288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right line spectra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when connected to an energy source, gases emit distinct lines of color which can be used to identif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ydrogen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lways had the same 4 colors at the same 4 frequencies – electrons can only exist at certain energy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n “excited”, electrons absorb energy and “jump” to a higher energy level (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cited atoms are unstable and lose energy only in certain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ight waves of distinct frequencies are emitted when electrons return to their “normal”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Properties of Wav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aves possess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nergy is directly proportional to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=h</a:t>
            </a:r>
            <a:r>
              <a:rPr b="0" lang="el-GR" sz="2400" spc="-1" strike="noStrike">
                <a:solidFill>
                  <a:srgbClr val="000000"/>
                </a:solidFill>
                <a:latin typeface="Century Gothic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ergy in joules=(6.63 x 1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Gothic"/>
              </a:rPr>
              <a:t>-34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J*s)x(frequency in 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equency and wavelength are indirect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=</a:t>
            </a:r>
            <a:r>
              <a:rPr b="0" lang="el-GR" sz="2400" spc="-1" strike="noStrike">
                <a:solidFill>
                  <a:srgbClr val="000000"/>
                </a:solidFill>
                <a:latin typeface="Century Gothic"/>
              </a:rPr>
              <a:t>λ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3.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Gothic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m/s=(wavelength in m)x(frequency in 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termining Properties of Wav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wave has a frequency of 5.0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-2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z, what energy does it poss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a wave has a 3.4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m wavelength, what is its frequ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is the frequency of a wave with 2.93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J of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is the energy possessed by a wave with a wavelength of 0.025 m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0:53:59Z</dcterms:created>
  <dc:creator>Leanne Vogelsong</dc:creator>
  <dc:description/>
  <dc:language>en-US</dc:language>
  <cp:lastModifiedBy>udsd</cp:lastModifiedBy>
  <dcterms:modified xsi:type="dcterms:W3CDTF">2008-11-12T12:39:31Z</dcterms:modified>
  <cp:revision>31</cp:revision>
  <dc:subject/>
  <dc:title>Slide 1</dc:title>
</cp:coreProperties>
</file>